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5ACE-05C5-4531-A177-A14C9F00A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B7F7-00D9-4714-B1C1-151E0DCA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AF6B-FDF3-4DE0-8EDB-844C58CBB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B280-F0B9-45C4-B992-9B7E7A82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04AA-484B-49F2-B768-85A05114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8249-F698-4A37-A326-8BC5DB13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F337-76BB-42F0-8017-B6EA5201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FE92-AD10-455F-B32D-48721484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CA7E-FC26-4988-8BCE-A3539042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2AB2-6C39-45A8-8837-10E05AD8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9279-68B5-455D-8DC9-91FBD217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AB01-922D-44C3-B9EE-2B05B584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6408-A8F9-4020-A8F4-BBCD00539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6440400" cy="1308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4320" y="15606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71600" y="1600200"/>
            <a:ext cx="419112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6897960" cy="6377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523880" y="6095880"/>
            <a:ext cx="3812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81280" y="6095880"/>
            <a:ext cx="38124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095880"/>
            <a:ext cx="5331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100080"/>
            <a:ext cx="7772400" cy="6580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38080" y="6324480"/>
            <a:ext cx="1295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6324480"/>
            <a:ext cx="1600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62720" y="6324480"/>
            <a:ext cx="1523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440" y="304920"/>
            <a:ext cx="4915080" cy="976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8600" y="1471680"/>
            <a:ext cx="7924680" cy="5126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5029200"/>
            <a:ext cx="16761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6095880"/>
            <a:ext cx="22096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001000" cy="6784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09680" y="6324480"/>
            <a:ext cx="38124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62485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62920" y="6248520"/>
            <a:ext cx="6094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13268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7T16:37:10Z</dcterms:created>
  <dc:creator>Graham</dc:creator>
  <dc:description/>
  <dc:language>en-US</dc:language>
  <cp:lastModifiedBy>Graham</cp:lastModifiedBy>
  <dcterms:modified xsi:type="dcterms:W3CDTF">2012-08-08T12:20:13Z</dcterms:modified>
  <cp:revision>2</cp:revision>
  <dc:subject/>
  <dc:title>Slide 1</dc:title>
</cp:coreProperties>
</file>